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projctor.wav" ContentType="audio/x-wav"/>
  <Override PartName="/ppt/media/image17.jpeg" ContentType="image/jpeg"/>
  <Override PartName="/ppt/media/image18.jpeg" ContentType="image/jpeg"/>
  <Override PartName="/ppt/media/image16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DDE-C82A-4C50-880D-8F274AA94C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D211-77BA-4FBA-8CC6-78B50B1FAD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D6A-B9CE-4359-83FF-97B3B4E2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242-9DF3-43AD-8DEA-60FC61BE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28D-67F2-4D69-A703-9961015A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3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092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3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092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18C-B955-4B20-97D8-2C7B3AEC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97A2-0CD0-4915-A24D-143EB5E9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C44-08A5-483E-9DD5-994D2FB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D7B-06C9-421C-BE89-88C65841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80A3-026E-4C19-86B8-39E5FFE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6E56-719E-4259-9260-CA2613A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3905-11A7-4A02-A839-BB6C8D92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7216-2FA7-48C9-A3CA-C670BD0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DA0-D0F5-4E87-AD02-A8C50F6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9901-896C-41FA-BE69-B1760E7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1F52-E9B5-4360-8D53-852A826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2D3B-6C8E-4E5F-B8C4-E972756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647F-E7E8-4BBF-BC13-0D2D4D1D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23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092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95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23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5092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ADC8-B34E-4317-90CE-506FF0DE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8B7-F5FC-4ACE-83C7-54B70178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001-DBBD-43EA-92C6-B9FB1F0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EA0-5427-4CCC-AADE-8B5E8AE9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959-9FF8-420C-B8AB-2B6B0C8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9CD-0192-473C-946A-DAC51AC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642-649F-4766-A8FE-42EBDB2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AD0-8D2B-48B2-B1EC-1FACAE1C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65C7-A41B-4A41-BB08-B03FC70E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295280" y="838080"/>
            <a:ext cx="7848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8458200" y="608400"/>
            <a:ext cx="68580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295280" y="6324480"/>
            <a:ext cx="784872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29528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CR A Extended"/>
              </a:rPr>
              <a:t>WWW.YOUR-SCHOOL-URL.COM</a:t>
            </a:r>
            <a:endParaRPr b="0" lang="en-US" sz="16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9" name="Picture 11" descr="finger"/>
          <p:cNvPicPr/>
          <p:nvPr/>
        </p:nvPicPr>
        <p:blipFill>
          <a:blip r:embed="rId3"/>
          <a:stretch/>
        </p:blipFill>
        <p:spPr>
          <a:xfrm>
            <a:off x="5943600" y="6421320"/>
            <a:ext cx="339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89C-9E3E-4E46-B4D1-AAB5FB23F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image" Target="../media/image18.jpeg"/><Relationship Id="rId7" Type="http://schemas.openxmlformats.org/officeDocument/2006/relationships/image" Target="../media/image7.jpeg"/><Relationship Id="rId8" Type="http://schemas.openxmlformats.org/officeDocument/2006/relationships/image" Target="../media/image4.jpeg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geeky_girl_at_computer_hg_wht"/>
          <p:cNvPicPr/>
          <p:nvPr/>
        </p:nvPicPr>
        <p:blipFill>
          <a:blip r:embed="rId2"/>
          <a:stretch/>
        </p:blipFill>
        <p:spPr>
          <a:xfrm>
            <a:off x="6324480" y="-76320"/>
            <a:ext cx="2629080" cy="2133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00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Haettenschweiler"/>
              </a:rPr>
              <a:t>Тема 6.</a:t>
            </a:r>
            <a:r>
              <a:rPr b="0" lang="ru-RU" sz="5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Haettenschweiler"/>
              </a:rPr>
              <a:t>Элементы графической нотации диаграммы кооперации</a:t>
            </a:r>
            <a:endParaRPr b="0" lang="en-US" sz="40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9280" y="2565360"/>
            <a:ext cx="651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Eras Demi ITC"/>
              </a:rPr>
              <a:t>Диаграмма кооперации предназначена для описания поведения системы на уровне отдельных объектов, которые обмениваются между собой сообщениями, чтобы достичь нужной цели или реализовать некоторый вариант использования.</a:t>
            </a:r>
            <a:endParaRPr b="0" lang="en-US" sz="30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98" name="Picture 5" descr="finger"/>
          <p:cNvPicPr/>
          <p:nvPr/>
        </p:nvPicPr>
        <p:blipFill>
          <a:blip r:embed="rId3"/>
          <a:stretch/>
        </p:blipFill>
        <p:spPr>
          <a:xfrm>
            <a:off x="6705720" y="4724280"/>
            <a:ext cx="9842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258920" y="0"/>
            <a:ext cx="698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Изображение составного объекта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rcRect l="28066" t="2892" r="29886" b="2953"/>
          <a:stretch/>
        </p:blipFill>
        <p:spPr>
          <a:xfrm>
            <a:off x="3203640" y="1197000"/>
            <a:ext cx="3740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0"/>
            <a:ext cx="698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Изображение связей с различными стереотипами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rcRect l="16052" t="3160" r="14652" b="0"/>
          <a:stretch/>
        </p:blipFill>
        <p:spPr>
          <a:xfrm>
            <a:off x="2843280" y="1293840"/>
            <a:ext cx="4824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5280" y="837720"/>
            <a:ext cx="7453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Сообщение (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) — спецификация передачи информации от одного элемента модели к другому с ожиданием выполнения определенных действий со стороны принимающего элемента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258920" y="0"/>
            <a:ext cx="698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Сообщения и их изображение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rcRect l="1701" t="10403" r="5957" b="26660"/>
          <a:stretch/>
        </p:blipFill>
        <p:spPr>
          <a:xfrm>
            <a:off x="1403280" y="2997360"/>
            <a:ext cx="7201080" cy="798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332000" y="407664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26810"/>
                </a:solidFill>
                <a:latin typeface="Arial"/>
              </a:rPr>
              <a:t>Стереотипы сообщений</a:t>
            </a:r>
            <a:endParaRPr b="0" lang="en-US" sz="4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call&gt;&gt;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 (вызвать) - сообщение, требующее вызова операции и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процедуры объекта-получателя.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return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возвратить) — сообщение, возвращающее значение вы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полненной операции или процедуры вызвавшему ее объекту.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create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создать) — сообщение, требующее создания друг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объекта для выполнения определенных действий.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destroy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уничтожить) — сообщение с явным требованием унич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тожить соответствующий объект. Посылается в том случае, ког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необходимо прекратить нежелательные действия со стороны суще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ствующего в системе объекта, либо когда объект больше не нужен.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send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послать) — обозначает посылку другому объекту сигн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который асинхронно инициируется одним объектом и приним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(перехватывается) другим. Отличие сигнала от сообщения заключа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ется в том, что сигнал должен быть явно описан в том классе, объе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которого инициирует его передачу.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8" descr="geeky_girl_at_computer_hg_wht"/>
          <p:cNvPicPr/>
          <p:nvPr/>
        </p:nvPicPr>
        <p:blipFill>
          <a:blip r:embed="rId1"/>
          <a:stretch/>
        </p:blipFill>
        <p:spPr>
          <a:xfrm>
            <a:off x="6324480" y="4572000"/>
            <a:ext cx="2629080" cy="2133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Elements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8760" y="1600200"/>
            <a:ext cx="8832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Franklin Gothic Demi Cond"/>
              </a:rPr>
              <a:t>www.animationfactory.com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34" name="Picture 8" descr="finger"/>
          <p:cNvPicPr/>
          <p:nvPr/>
        </p:nvPicPr>
        <p:blipFill>
          <a:blip r:embed="rId2"/>
          <a:stretch/>
        </p:blipFill>
        <p:spPr>
          <a:xfrm>
            <a:off x="2362320" y="228600"/>
            <a:ext cx="1269720" cy="1351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2"/>
          <p:cNvSpPr/>
          <p:nvPr/>
        </p:nvSpPr>
        <p:spPr>
          <a:xfrm>
            <a:off x="6400800" y="3429000"/>
            <a:ext cx="2514600" cy="990720"/>
          </a:xfrm>
          <a:prstGeom prst="wedgeRectCallout">
            <a:avLst>
              <a:gd name="adj1" fmla="val -1768"/>
              <a:gd name="adj2" fmla="val 10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400800" y="342900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eat computer animations like these can be found on the  Platinum Site. Search Bloodhound for “internet”!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37" name="Picture 14" descr="excellence_in_education_prt"/>
          <p:cNvPicPr/>
          <p:nvPr/>
        </p:nvPicPr>
        <p:blipFill>
          <a:blip r:embed="rId3"/>
          <a:stretch/>
        </p:blipFill>
        <p:spPr>
          <a:xfrm>
            <a:off x="4114800" y="7632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excellence_in_education_qx"/>
          <p:cNvPicPr/>
          <p:nvPr/>
        </p:nvPicPr>
        <p:blipFill>
          <a:blip r:embed="rId4"/>
          <a:stretch/>
        </p:blipFill>
        <p:spPr>
          <a:xfrm>
            <a:off x="304920" y="457200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excellence_in_education_qx2"/>
          <p:cNvPicPr/>
          <p:nvPr/>
        </p:nvPicPr>
        <p:blipFill>
          <a:blip r:embed="rId5"/>
          <a:stretch/>
        </p:blipFill>
        <p:spPr>
          <a:xfrm>
            <a:off x="304920" y="242244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excellence_in_education_trs"/>
          <p:cNvPicPr/>
          <p:nvPr/>
        </p:nvPicPr>
        <p:blipFill>
          <a:blip r:embed="rId6"/>
          <a:stretch/>
        </p:blipFill>
        <p:spPr>
          <a:xfrm>
            <a:off x="2971800" y="457200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computer"/>
          <p:cNvPicPr/>
          <p:nvPr/>
        </p:nvPicPr>
        <p:blipFill>
          <a:blip r:embed="rId7"/>
          <a:stretch/>
        </p:blipFill>
        <p:spPr>
          <a:xfrm>
            <a:off x="7026120" y="76320"/>
            <a:ext cx="2041560" cy="194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excellence_in_education_tr2"/>
          <p:cNvPicPr/>
          <p:nvPr/>
        </p:nvPicPr>
        <p:blipFill>
          <a:blip r:embed="rId8"/>
          <a:stretch/>
        </p:blipFill>
        <p:spPr>
          <a:xfrm>
            <a:off x="2971800" y="2422440"/>
            <a:ext cx="2514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26810"/>
                </a:solidFill>
                <a:latin typeface="Verdana"/>
              </a:rPr>
              <a:t>Кооперация (</a:t>
            </a:r>
            <a:r>
              <a:rPr b="1" lang="en-US" sz="3800" spc="-1" strike="noStrike">
                <a:solidFill>
                  <a:srgbClr val="d26810"/>
                </a:solidFill>
                <a:latin typeface="Verdana"/>
              </a:rPr>
              <a:t>collaboration)</a:t>
            </a:r>
            <a:endParaRPr b="0" lang="en-US" sz="3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877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цификация множества объектов от­дельных классов, совместно взаимодействующих с целью реализации отдель­ных вариантов использования в общем контексте моделируемой системы.</a:t>
            </a:r>
            <a:endParaRPr b="0" lang="en-US" sz="36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01" name="Picture 5" descr="computer"/>
          <p:cNvPicPr/>
          <p:nvPr/>
        </p:nvPicPr>
        <p:blipFill>
          <a:blip r:embed="rId2"/>
          <a:stretch/>
        </p:blipFill>
        <p:spPr>
          <a:xfrm>
            <a:off x="7524720" y="4843440"/>
            <a:ext cx="15271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6810"/>
                </a:solidFill>
                <a:latin typeface="Haettenschweiler"/>
              </a:rPr>
              <a:t>Кооперация определяет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у поведения системы в терминах взаимодействия участников этой кооперации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6810"/>
                </a:solidFill>
                <a:latin typeface="Haettenschweiler"/>
              </a:rPr>
              <a:t>На диаграмме кооперации размещаются:</a:t>
            </a:r>
            <a:endParaRPr b="0" lang="en-US" sz="4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 (экземпляры классов);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и между объектами (экземпляры ассоциаций);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я;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взаимосвязи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04" name="Picture 4" descr="computer"/>
          <p:cNvPicPr/>
          <p:nvPr/>
        </p:nvPicPr>
        <p:blipFill>
          <a:blip r:embed="rId2"/>
          <a:stretch/>
        </p:blipFill>
        <p:spPr>
          <a:xfrm>
            <a:off x="7010280" y="4354560"/>
            <a:ext cx="2041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Haettenschweiler"/>
              </a:rPr>
              <a:t>Отличие диаграммы кооперации от диаграммы классов состоит в том, что</a:t>
            </a:r>
            <a:endParaRPr b="0" lang="en-US" sz="4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Одна и та же совокупность объектов может участвовать в реализации различных коопераций. В зависимости от рассматриваемой кооперации, могут изменяться как связи между отдельными объектами, так и поток сообщений между ними. 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На диаграмме классов должны быть указаны все без исключения классы, их атрибуты и операции, а также все ассоциации и другие структурные отношения между элементами модели 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07" name="Picture 4" descr="computer"/>
          <p:cNvPicPr/>
          <p:nvPr/>
        </p:nvPicPr>
        <p:blipFill>
          <a:blip r:embed="rId2"/>
          <a:stretch/>
        </p:blipFill>
        <p:spPr>
          <a:xfrm>
            <a:off x="7010280" y="4354560"/>
            <a:ext cx="2041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Haettenschweiler"/>
              </a:rPr>
              <a:t>Объекты и их графическое изображение</a:t>
            </a:r>
            <a:endParaRPr b="0" lang="en-US" sz="4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71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26810"/>
                </a:solidFill>
                <a:latin typeface="Arial"/>
              </a:rPr>
              <a:t>Объект (</a:t>
            </a:r>
            <a:r>
              <a:rPr b="1" lang="en-US" sz="2800" spc="-1" strike="noStrike">
                <a:solidFill>
                  <a:srgbClr val="d26810"/>
                </a:solidFill>
                <a:latin typeface="Arial"/>
              </a:rPr>
              <a:t>object</a:t>
            </a:r>
            <a:r>
              <a:rPr b="1" lang="ru-RU" sz="2800" spc="-1" strike="noStrike">
                <a:solidFill>
                  <a:srgbClr val="d2681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ущность с хорошо определенными границами и индивидуальностью, которая инкапсулирует состояние и поведение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26810"/>
                </a:solidFill>
                <a:latin typeface="Arial"/>
              </a:rPr>
              <a:t>Полное имя объекта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 Cond"/>
              </a:rPr>
              <a:t>Собственное имя объекта&gt; '/'&lt;Имя роли класса&gt; :&lt;Имя класса&gt;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10" name="Picture 4" descr="computer"/>
          <p:cNvPicPr/>
          <p:nvPr/>
        </p:nvPicPr>
        <p:blipFill>
          <a:blip r:embed="rId2"/>
          <a:stretch/>
        </p:blipFill>
        <p:spPr>
          <a:xfrm>
            <a:off x="7010280" y="4354560"/>
            <a:ext cx="2041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41672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6810"/>
                </a:solidFill>
                <a:latin typeface="Arial"/>
              </a:rPr>
              <a:t>Варианты возможных записей полного имени объекта на диаграмме кооперации:</a:t>
            </a:r>
            <a:endParaRPr b="0" lang="en-US" sz="36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06028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: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бъект с собственным именем о, экземпляр класса С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нонимный объект, экземпляр класса С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ли прост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объект-сирота с собственным именем о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бъект с собственным именем о, экземпляр 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а С, играющий 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: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анонимный объект, экземпляр класса С,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щий 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бъект-сирота с собственным именем о,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щий 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анонимный объект и одновременно объект-сирота,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ющ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848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d26810"/>
                </a:solidFill>
                <a:latin typeface="Arial"/>
              </a:rPr>
              <a:t>Примеры изображения объектов на диаграмме кооперации</a:t>
            </a:r>
            <a:endParaRPr b="0" lang="en-US" sz="3600" spc="-1" strike="noStrike">
              <a:solidFill>
                <a:srgbClr val="000000"/>
              </a:solidFill>
              <a:latin typeface="Haettenschweiler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1547640" y="15462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56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Графическое изображение активного объекта</a:t>
            </a:r>
            <a:endParaRPr b="0" lang="en-US" sz="2800" spc="-1" strike="noStrike">
              <a:solidFill>
                <a:srgbClr val="000000"/>
              </a:solidFill>
              <a:latin typeface="Haettenschweiler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rcRect l="17913" t="25628" r="19050" b="22948"/>
          <a:stretch/>
        </p:blipFill>
        <p:spPr>
          <a:xfrm>
            <a:off x="1692360" y="1052640"/>
            <a:ext cx="6357960" cy="1057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042920" y="2421000"/>
            <a:ext cx="853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Графическое изображение мультиобъектов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5832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187280" y="0"/>
            <a:ext cx="853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Фрагмент диаграммы кооперации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rcRect l="9225" t="7232" r="7802" b="3813"/>
          <a:stretch/>
        </p:blipFill>
        <p:spPr>
          <a:xfrm>
            <a:off x="1258920" y="1903320"/>
            <a:ext cx="78850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2:43:33Z</dcterms:created>
  <dc:creator>Пользователь</dc:creator>
  <dc:description/>
  <dc:language>en-US</dc:language>
  <cp:lastModifiedBy>Пользователь</cp:lastModifiedBy>
  <dcterms:modified xsi:type="dcterms:W3CDTF">2011-03-03T06:01:33Z</dcterms:modified>
  <cp:revision>15</cp:revision>
  <dc:subject/>
  <dc:title>Excellene in Education</dc:title>
</cp:coreProperties>
</file>